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8756-C85F-40D9-850A-D908FEA4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0D19-CC95-4DE6-A1A5-605C5978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7E93-5880-45E4-BBC1-7DA4311D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F3E-B2C7-4E40-AD1F-8EF6AA56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2F30-CE78-422B-9DD6-A2C544CD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1875-4ABD-48B4-AAC8-F52FE856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47CC-B38E-47DB-B990-577643EB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92ED-F0BB-4B25-B885-D4F2618F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0168-4543-432D-8BB8-0284ADA8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776B-A460-495E-9C93-3C050B73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6750-0E7D-4BF9-A13B-70298699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B49B-0003-4CFE-B662-74572474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CF5B-5725-4442-B9D7-F2F3B1CA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5D60-79E0-4246-BE0B-E3D43EE9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ED15-5E5B-4CCB-91BE-4F56CC45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4862-3B89-4574-A76E-43165666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CA83-2617-41A6-BF19-5020AB2F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D7BF-1429-497C-970F-A33F172F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4E2-F271-4319-8F12-E4C6CA23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AEB-BE15-4670-9CE8-8FF5A90D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441B-70E9-4CB1-B603-4536F211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4D34-2C19-40E8-9661-B65872DE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2DF-0D3A-4561-BCB3-D64010D1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C9FF-BE90-4CBC-8778-AD424BD3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5069-297A-4E76-86E5-48619018F8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B629-E3AF-4511-8AC9-E336FB92F8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itesatlas.com/Atlas/PolAtlas/polnav.nv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eograph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4" descr="polna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600200" y="1676520"/>
            <a:ext cx="107442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geographic feature had the greatest influence on the development of ancient civilization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nse fores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untain pas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mooth coastli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iver valley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sopotam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Picture 7" descr="map01mes"/>
          <p:cNvPicPr/>
          <p:nvPr/>
        </p:nvPicPr>
        <p:blipFill>
          <a:blip r:embed="rId1"/>
          <a:stretch/>
        </p:blipFill>
        <p:spPr>
          <a:xfrm>
            <a:off x="609480" y="1600200"/>
            <a:ext cx="7848720" cy="5022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87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 for Mesopotam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rtile Crescent – two rivers:  Tigris and Euphra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ood erratically – need to build dams and dyk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sy to navigate rivers – lots of invasions (Akkadians, Babylonians, Assyrian, Persians….), cultural diffusion, political instabil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1" name="Picture 5" descr="map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for Ch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THNOCENTRISM – caused by geographic barriers – Gobi Desert, Tien Shen Mts., Himalayas, Pacific Oce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vers – Yellow (Huange-He) “River of Sorrow” – heavy silt, cut deep into mts; Yangtze – both rivers flow west to ea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aptations – Silk Road, Great Wall, Grand Canal, terrace farming along Yello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on Ind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b-continent of As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ninsu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so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us River – navigable (similar to Tigri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ndu-Kush mts and Himalayas protect and isol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ccan plateau – center – inhospitabl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 live near Indus/Ganges (sacred to Hinduism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ts of trade in Indian Oce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ailroad handy to unite large landma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India, Bangladesh and much of Southeast Asia, agricultural productivity is most affected by th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asonal monso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navigable riv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erous deser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ld clima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2428920" y="1712880"/>
            <a:ext cx="428616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on Gree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chipelag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lis/Poleis will be divided by mountai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eat natural harbors for fishing and trade; strength of military is triremes for Athens not hopli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w natural rivers/springs – need to import food – colon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lcanic area – angry gods (land and sea – Zeus/Poseid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ch volcanic soil good for olives and grap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6868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ch was one cause of the development of many small independent city-states in ancient Greec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eece and Rome were often at W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mountainous terrain of Greece resulted in widely scattered settlem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litary leaders found small Greek settlements easy to contr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Greek people had many different languages and relig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man Emp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7" name="Picture 5" descr="Map of the Roman Empire at its height"/>
          <p:cNvPicPr/>
          <p:nvPr/>
        </p:nvPicPr>
        <p:blipFill>
          <a:blip r:embed="rId1"/>
          <a:stretch/>
        </p:blipFill>
        <p:spPr>
          <a:xfrm>
            <a:off x="1371600" y="1828800"/>
            <a:ext cx="67816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for Roman Emp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aly is Peninsu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panded over three continents around Mediterranean Sea – several wars such as Punic (Carthage fighting over Sicily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 large – Roman legions need to build roads, aqueducts, bridges, wal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o large – Diocletian will divide, later easily invaded by Huns, e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audi Arab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ninsu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abian Desert – will need camels to cross to oases (fleet of the desert), leads to Bedouin (nomadic) lif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cess to Red Sea, Arabian Sea and Persian Gulf for trade – trade will be key (Mecca located centrally on Red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ersection of 3 continents – Africa, Asia, and Europ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ACTS OF 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MOUNTA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DIVIDE PEOPLE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creates cultural diversity (Andes Mts for Incas, Greece) even isolation (Chin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PROTECTS PEOP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Alps for Italy, Himalayas for China and India, Andes for In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DIFFICULT TO FARM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have to introduce </a:t>
            </a: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terrace farming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Japan, Incan, Yellow River (Chin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ACTS OF 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RIV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UNITES PEOPLE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unifies cultures, ease of communication, increases tra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HELPS FARMING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creates fertile soils (early river civs – Nile (Egypt), Mesopotamia, Indus, and Yellow (China), may need to build dams/dykes/irrig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SACR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Ganges (Hindu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ACTS OF 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DESER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DIVIDES PEOPLE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hard to cross, creates cultural diversity and isolation (Sahara in Afric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LACK OF RESOURCES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 no food can cause famines, need for tra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ACTS OF 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Verdana"/>
              </a:rPr>
              <a:t>MONSOON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India, China, Indonesia need rains to make food grow – if drought – famine, if floods – famine (build houses on stilts to protect from floods) // monsoon winds also help sailboats to travel Indian Oce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Verdana"/>
              </a:rPr>
              <a:t>COL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Russian steppes frozen (permafrost) – can not farm, need special houses, need access to warm water por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Essa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has a region’s geography shaped its histor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has man adapted his environment to shape his need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88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ypes of Map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Picture 5" descr="http://www.myteacherpages.com/webpages/TTravis/imageGallery/map%20physical.gif"/>
          <p:cNvPicPr/>
          <p:nvPr/>
        </p:nvPicPr>
        <p:blipFill>
          <a:blip r:embed="rId1"/>
          <a:stretch/>
        </p:blipFill>
        <p:spPr>
          <a:xfrm>
            <a:off x="297000" y="838080"/>
            <a:ext cx="2847960" cy="281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http://www.myteacherpages.com/webpages/TTravis/imageGallery/map%20political%202.jpg"/>
          <p:cNvPicPr/>
          <p:nvPr/>
        </p:nvPicPr>
        <p:blipFill>
          <a:blip r:embed="rId2"/>
          <a:stretch/>
        </p:blipFill>
        <p:spPr>
          <a:xfrm>
            <a:off x="3124080" y="3859200"/>
            <a:ext cx="2305080" cy="2743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http://i.imgur.com/um1EnGN.png"/>
          <p:cNvPicPr/>
          <p:nvPr/>
        </p:nvPicPr>
        <p:blipFill>
          <a:blip r:embed="rId3"/>
          <a:stretch/>
        </p:blipFill>
        <p:spPr>
          <a:xfrm>
            <a:off x="4381560" y="1501920"/>
            <a:ext cx="4762440" cy="24876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"/>
          <p:cNvSpPr/>
          <p:nvPr/>
        </p:nvSpPr>
        <p:spPr>
          <a:xfrm>
            <a:off x="317520" y="3859200"/>
            <a:ext cx="20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Physical/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pograph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1905120" y="588312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Politic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6172200" y="40132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artograph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s to Kno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ater:  Oceans (Atlantic, Indian, Pacific), Seas (Mediterranean, Black, Red, Arabian), Rivers (Nile, Tigris/Euphrates, Indus, Yellow), Strai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nd:  Mountains (Himalayas, Alps) Plateaus (Deccan) Deserts (Sahara, Lybian, Nubian, Gobi, Arabian) Peninsulas (Italy, India, Saudi Arabia), Archipelago (Greece, Japa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ifications – terraces (Yellow), roads (Silk, Roman legions, Persians), walls (Great Wall, Hadrian), irrigation (aqueducts), canals (Grand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4114800" cy="17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ich letter identifies the peninsula that is home to Mecca, the religious center of Islam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1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3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2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4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447920" y="152280"/>
            <a:ext cx="6291000" cy="40863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457200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ere did Asoka erect the Sacred Pillars or his Edi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1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3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2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4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geographic similarity between Italy and India is that both of these countries are locat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1) on peninsul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2) on archipelag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3) between two ocea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4) south of the equa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98108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gyp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Picture 5" descr="delta"/>
          <p:cNvPicPr/>
          <p:nvPr/>
        </p:nvPicPr>
        <p:blipFill>
          <a:blip r:embed="rId1"/>
          <a:stretch/>
        </p:blipFill>
        <p:spPr>
          <a:xfrm>
            <a:off x="685800" y="2362320"/>
            <a:ext cx="4114800" cy="3800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egyptmap"/>
          <p:cNvPicPr/>
          <p:nvPr/>
        </p:nvPicPr>
        <p:blipFill>
          <a:blip r:embed="rId2"/>
          <a:stretch/>
        </p:blipFill>
        <p:spPr>
          <a:xfrm>
            <a:off x="5867280" y="533520"/>
            <a:ext cx="268920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Terms for Essay on Egyp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erts – “Red Lands” – Nubian, Libyan, and Saha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ile River – “Black Lands” surround w/silt; floods annually – need to build irrigation, has cataracts (waterfalls), delta (tributaries protec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mpact – protects, stability of dynasties, need for strong central authority, culture based on Nile “Land of Living” vs. “Land of Dead”, architecture of sandstone, papyrus for books; build Aswan High Dam (no oil); Suez Canal built to capitalize on strategic location btw Mediterranean and Red se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1:07:03Z</dcterms:created>
  <dc:creator>Teacher</dc:creator>
  <dc:description/>
  <dc:language>en-US</dc:language>
  <cp:lastModifiedBy>Windows User</cp:lastModifiedBy>
  <dcterms:modified xsi:type="dcterms:W3CDTF">2014-01-23T21:04:47Z</dcterms:modified>
  <cp:revision>31</cp:revision>
  <dc:subject/>
  <dc:title>Geograph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